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7.wmf" ContentType="image/x-wmf"/>
  <Override PartName="/ppt/media/image6.gif" ContentType="image/gif"/>
  <Override PartName="/ppt/media/image12.jpeg" ContentType="image/jpeg"/>
  <Override PartName="/ppt/media/image10.wmf" ContentType="image/x-wmf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gif" ContentType="image/gif"/>
  <Override PartName="/ppt/media/image11.wmf" ContentType="image/x-wmf"/>
  <Override PartName="/ppt/media/image4.png" ContentType="image/png"/>
  <Override PartName="/ppt/media/image8.jpeg" ContentType="image/jpeg"/>
  <Override PartName="/ppt/media/image13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30DC-2D72-4967-BF91-78F0C1BBE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3FB0-2911-42AB-9326-86B0AB94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51D9-3F20-46F7-909D-9C04AF95D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A759-417C-40FA-9802-CE184A4C5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6A62-0BCC-4010-AD4E-40E22A514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7C00-93A8-4B72-BF89-C0D4C4DE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1F99-CAFC-47FF-9CF5-86E71F7F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EE20-0440-4710-9B91-E59AE57B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397A-2731-4DD0-98A7-5222B2A7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9E36-53EA-47FF-8780-5B2FBE60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4947-B374-4A9A-8AA2-F71B886F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01C8-A3E0-4EC2-BCEB-77BE3E4B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5112-79F5-463F-9DD0-F7357071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C607-F990-49AB-A2C2-096AF97E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91A5-2F8E-4EC4-947E-D3AA2458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672F-5B61-4EAF-9D1F-7B8922D3C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507A-E91D-4673-B52D-B4D04914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B601-F711-46BF-8A5B-D15BF085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741A-6A2D-4ABC-9F4B-A98D4CFA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F0F6-7AF3-42A1-BB36-0A86D7B6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1729-1B84-424C-99C5-ECD2F79E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D726-7F05-425A-8DAA-57B07212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9FD3-C1F6-41AA-BF7C-A331439D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78F5-D998-4ACC-8615-EE4B1D46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91BA-3A7C-41E8-9111-19812FCF719D}" type="slidenum">
              <a:rPr b="0" lang="en-US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7191-23B6-4F9E-ABE4-DDAA2AEDD035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hyperlink" Target="http://evolution.berkeley.edu/evolibrary/article/arthropodstory" TargetMode="External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Arthropods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abundant organism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Arthropods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e group of organisms known as Arthropods includes more than one million identified species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88" name="Picture 4" descr="MMj02835720000[1]"/>
          <p:cNvPicPr/>
          <p:nvPr/>
        </p:nvPicPr>
        <p:blipFill>
          <a:blip r:embed="rId1"/>
          <a:stretch/>
        </p:blipFill>
        <p:spPr>
          <a:xfrm>
            <a:off x="3505320" y="3429000"/>
            <a:ext cx="2819160" cy="1920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1" descr="cockroach"/>
          <p:cNvPicPr/>
          <p:nvPr/>
        </p:nvPicPr>
        <p:blipFill>
          <a:blip r:embed="rId1"/>
          <a:stretch/>
        </p:blipFill>
        <p:spPr>
          <a:xfrm>
            <a:off x="3456000" y="4383000"/>
            <a:ext cx="2189160" cy="2206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Arthropod Characteristics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r an organism to belong to the arthropod group, it needs certain traits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78f48"/>
                </a:solidFill>
                <a:latin typeface="Arial"/>
              </a:rPr>
              <a:t>All arthropods must have: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78f4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8f48"/>
                </a:solidFill>
                <a:latin typeface="Arial"/>
              </a:rPr>
              <a:t>3 </a:t>
            </a:r>
            <a:r>
              <a:rPr b="1" lang="en-US" sz="3200" spc="-1" strike="noStrike" u="sng">
                <a:solidFill>
                  <a:srgbClr val="078f48"/>
                </a:solidFill>
                <a:uFillTx/>
                <a:latin typeface="Arial"/>
              </a:rPr>
              <a:t>or more</a:t>
            </a:r>
            <a:r>
              <a:rPr b="1" lang="en-US" sz="3200" spc="-1" strike="noStrike">
                <a:solidFill>
                  <a:srgbClr val="078f48"/>
                </a:solidFill>
                <a:latin typeface="Arial"/>
              </a:rPr>
              <a:t> pairs of jointed legs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2" name="Line 5"/>
          <p:cNvSpPr/>
          <p:nvPr/>
        </p:nvSpPr>
        <p:spPr>
          <a:xfrm flipH="1" flipV="1">
            <a:off x="5562720" y="510516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 flipH="1" flipV="1">
            <a:off x="5486400" y="556272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 flipH="1">
            <a:off x="4495320" y="6400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6859800" y="5029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6402600" y="5791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5259600" y="6172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8f48"/>
                </a:solidFill>
                <a:latin typeface="Trebuchet MS"/>
              </a:rPr>
              <a:t>Arthropod Characteristics continued…</a:t>
            </a:r>
            <a:endParaRPr b="0" lang="en-US" sz="3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2. a hard outside coating called an exoskeleton that covers the whole body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100" name="Picture 5" descr="MCAN00565_0000[1]"/>
          <p:cNvPicPr/>
          <p:nvPr/>
        </p:nvPicPr>
        <p:blipFill>
          <a:blip r:embed="rId1"/>
          <a:stretch/>
        </p:blipFill>
        <p:spPr>
          <a:xfrm rot="19318800">
            <a:off x="1828800" y="3389040"/>
            <a:ext cx="3678120" cy="3468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hammer"/>
          <p:cNvPicPr/>
          <p:nvPr/>
        </p:nvPicPr>
        <p:blipFill>
          <a:blip r:embed="rId2"/>
          <a:stretch/>
        </p:blipFill>
        <p:spPr>
          <a:xfrm>
            <a:off x="2133720" y="3048120"/>
            <a:ext cx="2286000" cy="209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8f48"/>
                </a:solidFill>
                <a:latin typeface="Trebuchet MS"/>
              </a:rPr>
              <a:t>Arthropod Characteristics continued…</a:t>
            </a:r>
            <a:endParaRPr b="0" lang="en-US" sz="3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3. a body made up of two or more distinct parts (segments)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104" name="Picture 6" descr="MCj03468910000[1]"/>
          <p:cNvPicPr/>
          <p:nvPr/>
        </p:nvPicPr>
        <p:blipFill>
          <a:blip r:embed="rId1"/>
          <a:stretch/>
        </p:blipFill>
        <p:spPr>
          <a:xfrm>
            <a:off x="3276720" y="4419720"/>
            <a:ext cx="3733560" cy="2098440"/>
          </a:xfrm>
          <a:prstGeom prst="rect">
            <a:avLst/>
          </a:prstGeom>
          <a:ln w="0">
            <a:noFill/>
          </a:ln>
        </p:spPr>
      </p:pic>
      <p:sp>
        <p:nvSpPr>
          <p:cNvPr id="105" name="Line 7"/>
          <p:cNvSpPr/>
          <p:nvPr/>
        </p:nvSpPr>
        <p:spPr>
          <a:xfrm>
            <a:off x="3657600" y="3657600"/>
            <a:ext cx="152280" cy="91440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 flipH="1">
            <a:off x="4647960" y="3657600"/>
            <a:ext cx="75960" cy="990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5791320" y="3581280"/>
            <a:ext cx="0" cy="91440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3505320" y="2971800"/>
            <a:ext cx="171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WordArt 11"/>
          <p:cNvSpPr txBox="1"/>
          <p:nvPr/>
        </p:nvSpPr>
        <p:spPr>
          <a:xfrm>
            <a:off x="4648320" y="2971800"/>
            <a:ext cx="171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WordArt 12"/>
          <p:cNvSpPr txBox="1"/>
          <p:nvPr/>
        </p:nvSpPr>
        <p:spPr>
          <a:xfrm>
            <a:off x="5715000" y="2895480"/>
            <a:ext cx="171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Arthropod definitions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78f48"/>
                </a:solidFill>
                <a:uFillTx/>
                <a:latin typeface="Arial"/>
              </a:rPr>
              <a:t>Arthropod</a:t>
            </a: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 – “jointed foot.”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78f48"/>
                </a:solidFill>
                <a:uFillTx/>
                <a:latin typeface="Arial"/>
              </a:rPr>
              <a:t>Exoskeleton</a:t>
            </a: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 – the hard outside covering of an animal that has no skeleton inside its body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113" name="Picture 4" descr="MPj03140770000[1]"/>
          <p:cNvPicPr/>
          <p:nvPr/>
        </p:nvPicPr>
        <p:blipFill>
          <a:blip r:embed="rId1"/>
          <a:stretch/>
        </p:blipFill>
        <p:spPr>
          <a:xfrm>
            <a:off x="5867280" y="4191120"/>
            <a:ext cx="2362320" cy="1720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MMj02363150000[1]"/>
          <p:cNvPicPr/>
          <p:nvPr/>
        </p:nvPicPr>
        <p:blipFill>
          <a:blip r:embed="rId2"/>
          <a:stretch/>
        </p:blipFill>
        <p:spPr>
          <a:xfrm>
            <a:off x="1143000" y="-533520"/>
            <a:ext cx="647640" cy="1905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MCAN00325_0000[1]"/>
          <p:cNvPicPr/>
          <p:nvPr/>
        </p:nvPicPr>
        <p:blipFill>
          <a:blip r:embed="rId3"/>
          <a:stretch/>
        </p:blipFill>
        <p:spPr>
          <a:xfrm>
            <a:off x="914400" y="4876920"/>
            <a:ext cx="2019240" cy="1671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MCj03469250000[1]"/>
          <p:cNvPicPr/>
          <p:nvPr/>
        </p:nvPicPr>
        <p:blipFill>
          <a:blip r:embed="rId4"/>
          <a:stretch/>
        </p:blipFill>
        <p:spPr>
          <a:xfrm rot="5848800">
            <a:off x="7402320" y="58680"/>
            <a:ext cx="1800360" cy="168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8" descr="wolf_spider"/>
          <p:cNvPicPr/>
          <p:nvPr/>
        </p:nvPicPr>
        <p:blipFill>
          <a:blip r:embed="rId1"/>
          <a:stretch/>
        </p:blipFill>
        <p:spPr>
          <a:xfrm>
            <a:off x="3657600" y="4191120"/>
            <a:ext cx="1295280" cy="1230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centipede"/>
          <p:cNvPicPr/>
          <p:nvPr/>
        </p:nvPicPr>
        <p:blipFill>
          <a:blip r:embed="rId2"/>
          <a:stretch/>
        </p:blipFill>
        <p:spPr>
          <a:xfrm>
            <a:off x="4343400" y="2819520"/>
            <a:ext cx="1479600" cy="11109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Arthropods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685800"/>
            <a:ext cx="76960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ome members of the arthropods include: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8f48"/>
                </a:solidFill>
                <a:latin typeface="Arial"/>
              </a:rPr>
              <a:t>Lobsters</a:t>
            </a:r>
            <a:endParaRPr b="0" lang="en-US" sz="36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8f48"/>
                </a:solidFill>
                <a:latin typeface="Arial"/>
              </a:rPr>
              <a:t>-------------------Shrimp</a:t>
            </a:r>
            <a:endParaRPr b="0" lang="en-US" sz="36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8f48"/>
                </a:solidFill>
                <a:latin typeface="Arial"/>
              </a:rPr>
              <a:t>Centipedes</a:t>
            </a:r>
            <a:endParaRPr b="0" lang="en-US" sz="36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8f48"/>
                </a:solidFill>
                <a:latin typeface="Arial"/>
              </a:rPr>
              <a:t>-------------------Millipedes</a:t>
            </a:r>
            <a:endParaRPr b="0" lang="en-US" sz="36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8f48"/>
                </a:solidFill>
                <a:latin typeface="Arial"/>
              </a:rPr>
              <a:t>Spiders</a:t>
            </a:r>
            <a:endParaRPr b="0" lang="en-US" sz="36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8f48"/>
                </a:solidFill>
                <a:latin typeface="Arial"/>
              </a:rPr>
              <a:t>-------------------Insects</a:t>
            </a:r>
            <a:endParaRPr b="0" lang="en-US" sz="36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121" name="Picture 4" descr="lobster"/>
          <p:cNvPicPr/>
          <p:nvPr/>
        </p:nvPicPr>
        <p:blipFill>
          <a:blip r:embed="rId3"/>
          <a:stretch/>
        </p:blipFill>
        <p:spPr>
          <a:xfrm>
            <a:off x="3809880" y="1295280"/>
            <a:ext cx="1981440" cy="1400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shrimp"/>
          <p:cNvPicPr/>
          <p:nvPr/>
        </p:nvPicPr>
        <p:blipFill>
          <a:blip r:embed="rId4"/>
          <a:stretch/>
        </p:blipFill>
        <p:spPr>
          <a:xfrm>
            <a:off x="6400800" y="2044800"/>
            <a:ext cx="1523880" cy="1257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millipede"/>
          <p:cNvPicPr/>
          <p:nvPr/>
        </p:nvPicPr>
        <p:blipFill>
          <a:blip r:embed="rId5"/>
          <a:stretch/>
        </p:blipFill>
        <p:spPr>
          <a:xfrm>
            <a:off x="7010280" y="3505320"/>
            <a:ext cx="1447920" cy="1136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cockroach"/>
          <p:cNvPicPr/>
          <p:nvPr/>
        </p:nvPicPr>
        <p:blipFill>
          <a:blip r:embed="rId6"/>
          <a:stretch/>
        </p:blipFill>
        <p:spPr>
          <a:xfrm>
            <a:off x="6248520" y="4724280"/>
            <a:ext cx="1336680" cy="1347840"/>
          </a:xfrm>
          <a:prstGeom prst="rect">
            <a:avLst/>
          </a:prstGeom>
          <a:ln w="0">
            <a:noFill/>
          </a:ln>
        </p:spPr>
      </p:pic>
      <p:pic>
        <p:nvPicPr>
          <p:cNvPr id="125" name="Rectangle 9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6600" y="5894280"/>
            <a:ext cx="9248760" cy="781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7:05:45Z</dcterms:created>
  <dc:creator>Teacher</dc:creator>
  <dc:description/>
  <cp:keywords/>
  <dc:language>en-US</dc:language>
  <cp:lastModifiedBy>Moe</cp:lastModifiedBy>
  <dcterms:modified xsi:type="dcterms:W3CDTF">2009-10-05T11:22:47Z</dcterms:modified>
  <cp:revision>17</cp:revision>
  <dc:subject/>
  <dc:title>Arthropo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33</vt:lpwstr>
  </property>
</Properties>
</file>